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2EA325-BE80-4440-96AC-2E15989DB6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A0F731-FE61-4B57-918A-B378D831AE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E93B45-C828-4670-AB3B-A91DD2863E7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4E724C-8F38-452D-8202-368D576C668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507338-F106-42A5-937D-DC5F44D7E4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1697C6-4934-4D47-9BE9-297B99971BE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C66317-21B3-48D9-98F1-23BCE59F378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EB22F2-4CD4-4F77-AB47-C3BD1873AB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FCA33E-ABD9-47EB-83D0-41E06BA6AA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C9680F-9C37-4E81-9D2C-64A2ED72D8B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6A453A-7BCD-413C-B480-F8D13DCDFC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6A536A-BAD2-45E1-BDD6-323714272D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02D755-608D-435F-BAEA-17C8DC13F7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3360BA-EBE5-45B5-8E26-EDA33B0CE1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7BA890-0B8E-4805-9B03-21D6FF81DC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7AF12A-4F25-4B61-89B4-099231149B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5FB18B-12CA-4C4A-96DB-49EEE2DEAE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3473E0-41EF-4D3D-9E38-11D14F44A11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F0A840-403B-43B4-99F0-0714C78523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4570E5-CB78-4173-BBF3-0AAD05C3AC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0D83-8310-4BFA-8009-A2EA5965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78E5-F68F-456C-87E0-91E90B27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D28D-A1E7-41A2-986A-0E8EB900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39C-7109-43ED-AFDB-BA87250E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E201-79AA-42C0-AE58-14F5A7C1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0681-873F-4540-9A86-5B651B50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41EB-3767-4C2A-88C5-F77789F7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37FA-7A59-4AA0-B8B4-541ED6F5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74CB-3C28-4EAC-8903-F5C3ABC2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FABB-48F7-4216-B815-094A73C4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42BB-15AA-4894-B7A6-1FEEE4A8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210E-8FEF-475B-B1A9-8A8B9AAC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3E4B-AE8E-4B24-920B-AA689FEB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50DC-6602-412C-B338-FDCC7E44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298D-86B1-4BE4-88B5-32DF9B1A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FABB-5DA4-4DC3-8C93-90A79604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E4F7-B1AC-4045-8750-80C8299D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EBB56-ABA4-420B-9DDF-0340182F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D5E62-4A19-4D9A-8B2E-47EF3573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6C138-97D5-4449-BE14-CB077B5A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94B94-B00E-47C2-A50E-11918000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BA9A9-EADB-4B61-A181-B8ABE18E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513A-345E-4645-8AD9-BB2BFA23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604B7-6B51-4776-852D-29B5F77B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8FCE2-E20F-4B4F-9A11-160F9C35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0891F-9FBA-4783-A7E7-0F57A04A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946D7-DD3C-4DD7-AD8D-89DF512C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81F5F-7E99-414E-8C66-B446ADB9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1DD07-538E-4B19-AFB0-D3909711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D90E0-66D4-471F-8488-3BD826E5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CA6-25F9-4FA1-958C-718B82D6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EB2E-4C5E-4675-9D9B-38168DB4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102-9A34-4363-9CEB-E1037205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77F-D16C-4B56-96DB-BBDFAEFE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B92-B2C4-4222-9392-05F848A8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5F36-EAC0-4C5E-98B1-3DC57D39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FD25-8DF8-4B1B-8CE9-7C769483F29C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Maiandra G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330000"/>
                </a:solidFill>
                <a:latin typeface="Arial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4317-52C7-4372-BB36-698AB767C67C}" type="slidenum">
              <a:rPr b="0" lang="es-ES_tradnl" sz="1400" spc="-1" strike="noStrike">
                <a:solidFill>
                  <a:srgbClr val="33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Maiandra G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0000"/>
                </a:solidFill>
                <a:latin typeface="Arial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40D4-133E-4E4D-9BAD-E3D168E95A74}" type="slidenum">
              <a:rPr b="0" lang="de-DE" sz="1400" spc="-1" strike="noStrike">
                <a:solidFill>
                  <a:srgbClr val="33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Maiandra G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6" descr="Sin título-1"/>
          <p:cNvPicPr/>
          <p:nvPr/>
        </p:nvPicPr>
        <p:blipFill>
          <a:blip r:embed="rId1"/>
          <a:stretch/>
        </p:blipFill>
        <p:spPr>
          <a:xfrm>
            <a:off x="152280" y="115920"/>
            <a:ext cx="6240600" cy="6553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48160" y="1447920"/>
            <a:ext cx="2895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Copperplate Gothic Light"/>
              </a:rPr>
              <a:t>La Aventura de ser Hijos de 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5520" y="5257440"/>
            <a:ext cx="3048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3300"/>
                </a:solidFill>
                <a:latin typeface="Georgia"/>
              </a:rPr>
              <a:t>Proyecto de Pastoral Prejuven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3708360" y="333360"/>
            <a:ext cx="566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opperplate Gothic Bold"/>
              </a:rPr>
              <a:t>Camin</a:t>
            </a:r>
            <a:r>
              <a:rPr b="0" lang="es-ES_tradnl" sz="6000" spc="-1" strike="noStrike">
                <a:solidFill>
                  <a:srgbClr val="663300"/>
                </a:solidFill>
                <a:latin typeface="Copperplate Gothic Bold"/>
              </a:rPr>
              <a:t>antes</a:t>
            </a:r>
            <a:endParaRPr b="0" lang="en-US" sz="6000" spc="-1" strike="noStrike">
              <a:solidFill>
                <a:srgbClr val="663300"/>
              </a:solidFill>
              <a:latin typeface="Maiandra GD"/>
            </a:endParaRPr>
          </a:p>
        </p:txBody>
      </p:sp>
      <p:pic>
        <p:nvPicPr>
          <p:cNvPr id="136" name="Picture 19" descr="logo_vej CALADO"/>
          <p:cNvPicPr/>
          <p:nvPr/>
        </p:nvPicPr>
        <p:blipFill>
          <a:blip r:embed="rId2"/>
          <a:stretch/>
        </p:blipFill>
        <p:spPr>
          <a:xfrm>
            <a:off x="285840" y="5410080"/>
            <a:ext cx="1085760" cy="1219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1" descr="logo inpas mejor resolucion"/>
          <p:cNvPicPr/>
          <p:nvPr/>
        </p:nvPicPr>
        <p:blipFill>
          <a:blip r:embed="rId3"/>
          <a:stretch/>
        </p:blipFill>
        <p:spPr>
          <a:xfrm>
            <a:off x="5076720" y="5850000"/>
            <a:ext cx="1262160" cy="74772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34"/>
          <p:cNvGrpSpPr/>
          <p:nvPr/>
        </p:nvGrpSpPr>
        <p:grpSpPr>
          <a:xfrm>
            <a:off x="1619280" y="6021360"/>
            <a:ext cx="3384360" cy="524880"/>
            <a:chOff x="1619280" y="6021360"/>
            <a:chExt cx="3384360" cy="524880"/>
          </a:xfrm>
        </p:grpSpPr>
        <p:sp>
          <p:nvSpPr>
            <p:cNvPr id="139" name="Text Box 4"/>
            <p:cNvSpPr/>
            <p:nvPr/>
          </p:nvSpPr>
          <p:spPr>
            <a:xfrm>
              <a:off x="1619280" y="6021360"/>
              <a:ext cx="158436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Maiandra GD"/>
                </a:rPr>
                <a:t>Vicaría de la </a:t>
              </a:r>
              <a:endParaRPr b="0" lang="en-US" sz="1400" spc="-1" strike="noStrike">
                <a:solidFill>
                  <a:srgbClr val="663300"/>
                </a:solidFill>
                <a:latin typeface="Maiandra GD"/>
              </a:endParaRPr>
            </a:p>
            <a:p>
              <a:pPr algn="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Maiandra GD"/>
                </a:rPr>
                <a:t>Esperanza Joven </a:t>
              </a:r>
              <a:endParaRPr b="0" lang="en-US" sz="1400" spc="-1" strike="noStrike">
                <a:solidFill>
                  <a:srgbClr val="663300"/>
                </a:solidFill>
                <a:latin typeface="Maiandra GD"/>
              </a:endParaRPr>
            </a:p>
          </p:txBody>
        </p:sp>
        <p:sp>
          <p:nvSpPr>
            <p:cNvPr id="140" name="Text Box 32"/>
            <p:cNvSpPr/>
            <p:nvPr/>
          </p:nvSpPr>
          <p:spPr>
            <a:xfrm>
              <a:off x="3203640" y="6041880"/>
              <a:ext cx="18000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Maiandra GD"/>
                </a:rPr>
                <a:t>Instituto Pastoral </a:t>
              </a:r>
              <a:endParaRPr b="0" lang="en-US" sz="1400" spc="-1" strike="noStrike">
                <a:solidFill>
                  <a:srgbClr val="663300"/>
                </a:solidFill>
                <a:latin typeface="Maiandra GD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Maiandra GD"/>
                </a:rPr>
                <a:t>Apóstol Santiago</a:t>
              </a:r>
              <a:endParaRPr b="0" lang="en-US" sz="1400" spc="-1" strike="noStrike">
                <a:solidFill>
                  <a:srgbClr val="663300"/>
                </a:solidFill>
                <a:latin typeface="Maiandra GD"/>
              </a:endParaRPr>
            </a:p>
          </p:txBody>
        </p:sp>
        <p:sp>
          <p:nvSpPr>
            <p:cNvPr id="141" name="Line 33"/>
            <p:cNvSpPr/>
            <p:nvPr/>
          </p:nvSpPr>
          <p:spPr>
            <a:xfrm>
              <a:off x="3203640" y="6021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663300"/>
                </a:solidFill>
                <a:latin typeface="Maiandra GD"/>
              </a:endParaRPr>
            </a:p>
          </p:txBody>
        </p:sp>
      </p:grpSp>
      <p:pic>
        <p:nvPicPr>
          <p:cNvPr id="142" name="Picture 37" descr="LOGO CAMINANTES"/>
          <p:cNvPicPr/>
          <p:nvPr/>
        </p:nvPicPr>
        <p:blipFill>
          <a:blip r:embed="rId4"/>
          <a:stretch/>
        </p:blipFill>
        <p:spPr>
          <a:xfrm>
            <a:off x="6877080" y="3068640"/>
            <a:ext cx="176220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7696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Maiandra GD"/>
              </a:rPr>
              <a:t>Queremos propiciar un aprendizaje para el desarrollo integral de la persona, que permita a los prejuveniles desarrollar todo su poten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04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ctr">
            <a:noAutofit/>
          </a:bodyPr>
          <a:p>
            <a:pPr marL="3900600" indent="0">
              <a:lnSpc>
                <a:spcPct val="10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pperplate Gothic Light"/>
              </a:rPr>
              <a:t>Principios pedag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435640" y="2492280"/>
            <a:ext cx="3168720" cy="3808800"/>
          </a:xfrm>
          <a:prstGeom prst="rect">
            <a:avLst/>
          </a:prstGeom>
          <a:solidFill>
            <a:srgbClr val="66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3300"/>
                </a:solidFill>
                <a:latin typeface="Maiandra GD"/>
              </a:rPr>
              <a:t>- Partir de la experiencia</a:t>
            </a:r>
            <a:endParaRPr b="0" lang="en-US" sz="2200" spc="-1" strike="noStrike">
              <a:solidFill>
                <a:srgbClr val="663300"/>
              </a:solidFill>
              <a:latin typeface="Maiandra GD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3300"/>
                </a:solidFill>
                <a:latin typeface="Maiandra GD"/>
              </a:rPr>
              <a:t>- Centralidad de la Palabra de Dios</a:t>
            </a:r>
            <a:endParaRPr b="0" lang="en-US" sz="2200" spc="-1" strike="noStrike">
              <a:solidFill>
                <a:srgbClr val="663300"/>
              </a:solidFill>
              <a:latin typeface="Maiandra GD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3300"/>
                </a:solidFill>
                <a:latin typeface="Maiandra GD"/>
              </a:rPr>
              <a:t>- Vínculo centrado en el amor</a:t>
            </a:r>
            <a:endParaRPr b="0" lang="en-US" sz="2200" spc="-1" strike="noStrike">
              <a:solidFill>
                <a:srgbClr val="663300"/>
              </a:solidFill>
              <a:latin typeface="Maiandra GD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3300"/>
                </a:solidFill>
                <a:latin typeface="Maiandra GD"/>
              </a:rPr>
              <a:t>- Lo simbólico sacramental</a:t>
            </a:r>
            <a:endParaRPr b="0" lang="en-US" sz="2200" spc="-1" strike="noStrike">
              <a:solidFill>
                <a:srgbClr val="663300"/>
              </a:solidFill>
              <a:latin typeface="Maiandra GD"/>
            </a:endParaRPr>
          </a:p>
          <a:p>
            <a:pPr algn="r">
              <a:spcBef>
                <a:spcPts val="1375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3300"/>
                </a:solidFill>
                <a:latin typeface="Maiandra GD"/>
              </a:rPr>
              <a:t>- Lo narrativo</a:t>
            </a:r>
            <a:endParaRPr b="0" lang="en-US" sz="2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971640" y="2421000"/>
            <a:ext cx="39607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Especialmente a partir de la </a:t>
            </a:r>
            <a:r>
              <a:rPr b="1" lang="es-ES_tradnl" sz="2000" spc="-1" strike="noStrike">
                <a:solidFill>
                  <a:srgbClr val="000000"/>
                </a:solidFill>
                <a:latin typeface="Maiandra GD"/>
              </a:rPr>
              <a:t>mediación</a:t>
            </a: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 cercana y amorosa de animadores, asesores y principalmente de modelos en la fe como son los héroes del Antiguo Testamento. </a:t>
            </a: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  <a:p>
            <a:pPr algn="just"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Por ello, los principios pedagógicos que dan fundamento a nuestra propuesta son: </a:t>
            </a: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</p:txBody>
      </p:sp>
      <p:pic>
        <p:nvPicPr>
          <p:cNvPr id="199" name="Picture 9" descr="LOGO CAMINANTES"/>
          <p:cNvPicPr/>
          <p:nvPr/>
        </p:nvPicPr>
        <p:blipFill>
          <a:blip r:embed="rId1"/>
          <a:stretch/>
        </p:blipFill>
        <p:spPr>
          <a:xfrm>
            <a:off x="250920" y="130320"/>
            <a:ext cx="122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8487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Maiandra GD"/>
              </a:rPr>
              <a:t>De los principios pedagógicos recién mencionados, se desprenden algunos criterios que esperamos guíen nuestra acción pastoral concreta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04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ctr">
            <a:noAutofit/>
          </a:bodyPr>
          <a:p>
            <a:pPr marL="3522600" indent="0">
              <a:lnSpc>
                <a:spcPct val="10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pperplate Gothic Light"/>
              </a:rPr>
              <a:t>Criterios metodológicos</a:t>
            </a:r>
            <a:r>
              <a:rPr b="0" lang="es-ES_tradnl" sz="2800" spc="-1" strike="noStrike">
                <a:solidFill>
                  <a:srgbClr val="ffffff"/>
                </a:solidFill>
                <a:latin typeface="Maiandra G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5075280" y="2733840"/>
            <a:ext cx="3168720" cy="3648240"/>
          </a:xfrm>
          <a:prstGeom prst="rect">
            <a:avLst/>
          </a:prstGeom>
          <a:solidFill>
            <a:srgbClr val="66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663300"/>
              </a:buClr>
              <a:buFont typeface="Maiandra G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3300"/>
                </a:solidFill>
                <a:latin typeface="Maiandra GD"/>
              </a:rPr>
              <a:t>Oración comunitaria y personal </a:t>
            </a:r>
            <a:endParaRPr b="0" lang="en-US" sz="2200" spc="-1" strike="noStrike">
              <a:solidFill>
                <a:srgbClr val="663300"/>
              </a:solidFill>
              <a:latin typeface="Maiandra GD"/>
            </a:endParaRPr>
          </a:p>
          <a:p>
            <a:pPr>
              <a:spcBef>
                <a:spcPts val="1375"/>
              </a:spcBef>
              <a:buClr>
                <a:srgbClr val="663300"/>
              </a:buClr>
              <a:buFont typeface="Maiandra G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3300"/>
                </a:solidFill>
                <a:latin typeface="Maiandra GD"/>
              </a:rPr>
              <a:t> </a:t>
            </a:r>
            <a:r>
              <a:rPr b="1" lang="es-ES" sz="2200" spc="-1" strike="noStrike">
                <a:solidFill>
                  <a:srgbClr val="663300"/>
                </a:solidFill>
                <a:latin typeface="Maiandra GD"/>
              </a:rPr>
              <a:t>Celebración litúrgica</a:t>
            </a:r>
            <a:endParaRPr b="0" lang="en-US" sz="2200" spc="-1" strike="noStrike">
              <a:solidFill>
                <a:srgbClr val="663300"/>
              </a:solidFill>
              <a:latin typeface="Maiandra GD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3300"/>
                </a:solidFill>
                <a:latin typeface="Maiandra GD"/>
              </a:rPr>
              <a:t>- Dimensión lúdica</a:t>
            </a:r>
            <a:endParaRPr b="0" lang="en-US" sz="2200" spc="-1" strike="noStrike">
              <a:solidFill>
                <a:srgbClr val="663300"/>
              </a:solidFill>
              <a:latin typeface="Maiandra GD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3300"/>
                </a:solidFill>
                <a:latin typeface="Maiandra GD"/>
              </a:rPr>
              <a:t>- Disciplina y orden</a:t>
            </a:r>
            <a:endParaRPr b="0" lang="en-US" sz="2200" spc="-1" strike="noStrike">
              <a:solidFill>
                <a:srgbClr val="663300"/>
              </a:solidFill>
              <a:latin typeface="Maiandra GD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3300"/>
                </a:solidFill>
                <a:latin typeface="Maiandra GD"/>
              </a:rPr>
              <a:t>- Vida al aire libre</a:t>
            </a:r>
            <a:endParaRPr b="0" lang="en-US" sz="2200" spc="-1" strike="noStrike">
              <a:solidFill>
                <a:srgbClr val="663300"/>
              </a:solidFill>
              <a:latin typeface="Maiandra GD"/>
            </a:endParaRPr>
          </a:p>
          <a:p>
            <a:pPr>
              <a:spcBef>
                <a:spcPts val="1375"/>
              </a:spcBef>
              <a:spcAft>
                <a:spcPts val="689"/>
              </a:spcAft>
              <a:buClr>
                <a:srgbClr val="663300"/>
              </a:buClr>
              <a:buFont typeface="Maiandra G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3300"/>
                </a:solidFill>
                <a:latin typeface="Maiandra GD"/>
              </a:rPr>
              <a:t>Servicio solidario</a:t>
            </a:r>
            <a:endParaRPr b="0" lang="en-US" sz="2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332000" y="2747880"/>
            <a:ext cx="3168720" cy="3138480"/>
          </a:xfrm>
          <a:prstGeom prst="rect">
            <a:avLst/>
          </a:prstGeom>
          <a:solidFill>
            <a:srgbClr val="66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3300"/>
                </a:solidFill>
                <a:latin typeface="Maiandra GD"/>
              </a:rPr>
              <a:t>- Protagonismo</a:t>
            </a:r>
            <a:endParaRPr b="0" lang="en-US" sz="2200" spc="-1" strike="noStrike">
              <a:solidFill>
                <a:srgbClr val="663300"/>
              </a:solidFill>
              <a:latin typeface="Maiandra GD"/>
            </a:endParaRPr>
          </a:p>
          <a:p>
            <a:pPr>
              <a:spcBef>
                <a:spcPts val="1375"/>
              </a:spcBef>
              <a:buClr>
                <a:srgbClr val="663300"/>
              </a:buClr>
              <a:buFont typeface="Maiandra G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3300"/>
                </a:solidFill>
                <a:latin typeface="Maiandra GD"/>
              </a:rPr>
              <a:t>Retroalimentación</a:t>
            </a:r>
            <a:endParaRPr b="0" lang="en-US" sz="2200" spc="-1" strike="noStrike">
              <a:solidFill>
                <a:srgbClr val="663300"/>
              </a:solidFill>
              <a:latin typeface="Maiandra GD"/>
            </a:endParaRPr>
          </a:p>
          <a:p>
            <a:pPr>
              <a:spcBef>
                <a:spcPts val="1375"/>
              </a:spcBef>
              <a:buClr>
                <a:srgbClr val="663300"/>
              </a:buClr>
              <a:buFont typeface="Maiandra G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3300"/>
                </a:solidFill>
                <a:latin typeface="Maiandra GD"/>
              </a:rPr>
              <a:t>Autoevaluación</a:t>
            </a:r>
            <a:endParaRPr b="0" lang="en-US" sz="2200" spc="-1" strike="noStrike">
              <a:solidFill>
                <a:srgbClr val="663300"/>
              </a:solidFill>
              <a:latin typeface="Maiandra GD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3300"/>
                </a:solidFill>
                <a:latin typeface="Maiandra GD"/>
              </a:rPr>
              <a:t>- Interiorización</a:t>
            </a:r>
            <a:endParaRPr b="0" lang="en-US" sz="2200" spc="-1" strike="noStrike">
              <a:solidFill>
                <a:srgbClr val="663300"/>
              </a:solidFill>
              <a:latin typeface="Maiandra GD"/>
            </a:endParaRPr>
          </a:p>
          <a:p>
            <a:pPr>
              <a:spcBef>
                <a:spcPts val="1375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3300"/>
                </a:solidFill>
                <a:latin typeface="Maiandra GD"/>
              </a:rPr>
              <a:t>- Participación de padres y/o adultos significativos</a:t>
            </a:r>
            <a:endParaRPr b="0" lang="en-US" sz="2200" spc="-1" strike="noStrike">
              <a:solidFill>
                <a:srgbClr val="663300"/>
              </a:solidFill>
              <a:latin typeface="Maiandra GD"/>
            </a:endParaRPr>
          </a:p>
        </p:txBody>
      </p:sp>
      <p:pic>
        <p:nvPicPr>
          <p:cNvPr id="204" name="Picture 9" descr="LOGO CAMINANTES"/>
          <p:cNvPicPr/>
          <p:nvPr/>
        </p:nvPicPr>
        <p:blipFill>
          <a:blip r:embed="rId1"/>
          <a:stretch/>
        </p:blipFill>
        <p:spPr>
          <a:xfrm>
            <a:off x="250920" y="115920"/>
            <a:ext cx="122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1" descr="CAMINANTES CIRCULAR"/>
          <p:cNvPicPr/>
          <p:nvPr/>
        </p:nvPicPr>
        <p:blipFill>
          <a:blip r:embed="rId1"/>
          <a:stretch/>
        </p:blipFill>
        <p:spPr>
          <a:xfrm>
            <a:off x="1116000" y="750960"/>
            <a:ext cx="6985080" cy="61070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0"/>
          <p:cNvSpPr/>
          <p:nvPr/>
        </p:nvSpPr>
        <p:spPr>
          <a:xfrm>
            <a:off x="0" y="1052640"/>
            <a:ext cx="4427640" cy="2881080"/>
          </a:xfrm>
          <a:prstGeom prst="rect">
            <a:avLst/>
          </a:prstGeom>
          <a:solidFill>
            <a:srgbClr val="3366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07" name="Rectangle 39"/>
          <p:cNvSpPr/>
          <p:nvPr/>
        </p:nvSpPr>
        <p:spPr>
          <a:xfrm>
            <a:off x="0" y="3913200"/>
            <a:ext cx="4427640" cy="279252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08" name="Rectangle 38"/>
          <p:cNvSpPr/>
          <p:nvPr/>
        </p:nvSpPr>
        <p:spPr>
          <a:xfrm>
            <a:off x="4427640" y="4425840"/>
            <a:ext cx="4716360" cy="2819520"/>
          </a:xfrm>
          <a:prstGeom prst="rect">
            <a:avLst/>
          </a:pr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09" name="Rectangle 37"/>
          <p:cNvSpPr/>
          <p:nvPr/>
        </p:nvSpPr>
        <p:spPr>
          <a:xfrm>
            <a:off x="4427640" y="1052640"/>
            <a:ext cx="4716360" cy="2819160"/>
          </a:xfrm>
          <a:prstGeom prst="rect">
            <a:avLst/>
          </a:prstGeom>
          <a:solidFill>
            <a:srgbClr val="ff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6983280" y="1338120"/>
            <a:ext cx="21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aiandra GD"/>
              </a:rPr>
              <a:t>Episodio Uno: </a:t>
            </a:r>
            <a:endParaRPr b="0" lang="en-US" sz="1600" spc="-1" strike="noStrike">
              <a:solidFill>
                <a:srgbClr val="663300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pperplate Gothic Light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Copperplate Gothic Light"/>
              </a:rPr>
              <a:t>Atentos al llamado</a:t>
            </a:r>
            <a:r>
              <a:rPr b="0" lang="es-ES" sz="2400" spc="-1" strike="noStrike">
                <a:solidFill>
                  <a:srgbClr val="000000"/>
                </a:solidFill>
                <a:latin typeface="Copperplate Gothic Light"/>
              </a:rPr>
              <a:t>”</a:t>
            </a:r>
            <a:endParaRPr b="0" lang="en-US" sz="2400" spc="-1" strike="noStrike">
              <a:solidFill>
                <a:srgbClr val="663300"/>
              </a:solidFill>
              <a:latin typeface="Maiandra GD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aiandra GD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iandra GD"/>
              </a:rPr>
              <a:t>«Mundo ordinario» </a:t>
            </a:r>
            <a:endParaRPr b="0" lang="en-US" sz="1600" spc="-1" strike="noStrike">
              <a:solidFill>
                <a:srgbClr val="663300"/>
              </a:solidFill>
              <a:latin typeface="Maiandra GD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iandra GD"/>
              </a:rPr>
              <a:t>y llamado)</a:t>
            </a:r>
            <a:endParaRPr b="0" lang="en-US" sz="16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6781680" y="4869000"/>
            <a:ext cx="236232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aiandra GD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Maiandra GD"/>
              </a:rPr>
              <a:t>Episodio Dos:</a:t>
            </a:r>
            <a:r>
              <a:rPr b="0" lang="es-ES" sz="1800" spc="-1" strike="noStrike">
                <a:solidFill>
                  <a:srgbClr val="000000"/>
                </a:solidFill>
                <a:latin typeface="Maiandra GD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pperplate Gothic Light"/>
              </a:rPr>
              <a:t>“Preparando </a:t>
            </a:r>
            <a:endParaRPr b="0" lang="en-US" sz="2400" spc="-1" strike="noStrike">
              <a:solidFill>
                <a:srgbClr val="663300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pperplate Gothic Light"/>
              </a:rPr>
              <a:t>el viaje”</a:t>
            </a:r>
            <a:endParaRPr b="0" lang="en-US" sz="2400" spc="-1" strike="noStrike">
              <a:solidFill>
                <a:srgbClr val="663300"/>
              </a:solidFill>
              <a:latin typeface="Maiandra GD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aiandra GD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iandra GD"/>
              </a:rPr>
              <a:t>Preparación </a:t>
            </a:r>
            <a:endParaRPr b="0" lang="en-US" sz="1600" spc="-1" strike="noStrike">
              <a:solidFill>
                <a:srgbClr val="663300"/>
              </a:solidFill>
              <a:latin typeface="Maiandra GD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iandra GD"/>
              </a:rPr>
              <a:t>para la misión)</a:t>
            </a:r>
            <a:endParaRPr b="0" lang="en-US" sz="16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108000" y="1353960"/>
            <a:ext cx="194940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aiandra GD"/>
              </a:rPr>
              <a:t>Episodio Cuatro:</a:t>
            </a:r>
            <a:endParaRPr b="0" lang="en-US" sz="1600" spc="-1" strike="noStrike">
              <a:solidFill>
                <a:srgbClr val="663300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pperplate Gothic Light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Copperplate Gothic Light"/>
              </a:rPr>
              <a:t>De vuelta a casa”</a:t>
            </a:r>
            <a:endParaRPr b="0" lang="en-US" sz="2400" spc="-1" strike="noStrike">
              <a:solidFill>
                <a:srgbClr val="663300"/>
              </a:solidFill>
              <a:latin typeface="Maiandra GD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aiandra GD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iandra GD"/>
              </a:rPr>
              <a:t>Retorno)</a:t>
            </a:r>
            <a:endParaRPr b="0" lang="en-US" sz="16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-76320" y="5087880"/>
            <a:ext cx="228600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aiandra GD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Maiandra GD"/>
              </a:rPr>
              <a:t>Episodio Tres:</a:t>
            </a:r>
            <a:r>
              <a:rPr b="0" lang="es-ES" sz="1800" spc="-1" strike="noStrike">
                <a:solidFill>
                  <a:srgbClr val="000000"/>
                </a:solidFill>
                <a:latin typeface="Maiandra GD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pperplate Gothic Light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Copperplate Gothic Light"/>
              </a:rPr>
              <a:t>Viviendo la Aventura”</a:t>
            </a:r>
            <a:endParaRPr b="0" lang="en-US" sz="2400" spc="-1" strike="noStrike">
              <a:solidFill>
                <a:srgbClr val="663300"/>
              </a:solidFill>
              <a:latin typeface="Maiandra GD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aiandra GD"/>
              </a:rPr>
              <a:t>(M</a:t>
            </a:r>
            <a:r>
              <a:rPr b="0" lang="en-US" sz="1600" spc="-1" strike="noStrike">
                <a:solidFill>
                  <a:srgbClr val="000000"/>
                </a:solidFill>
                <a:latin typeface="Maiandra GD"/>
              </a:rPr>
              <a:t>isión)</a:t>
            </a:r>
            <a:endParaRPr b="0" lang="en-US" sz="16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14" name="Rectangle 32"/>
          <p:cNvSpPr/>
          <p:nvPr/>
        </p:nvSpPr>
        <p:spPr>
          <a:xfrm>
            <a:off x="4356000" y="2033640"/>
            <a:ext cx="2087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15" name="Rectangle 33"/>
          <p:cNvSpPr/>
          <p:nvPr/>
        </p:nvSpPr>
        <p:spPr>
          <a:xfrm>
            <a:off x="4284720" y="4122720"/>
            <a:ext cx="2087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16" name="Rectangle 34"/>
          <p:cNvSpPr/>
          <p:nvPr/>
        </p:nvSpPr>
        <p:spPr>
          <a:xfrm>
            <a:off x="2268360" y="4051440"/>
            <a:ext cx="2087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2771640" y="2924280"/>
            <a:ext cx="182880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18" name="Rectangle 56"/>
          <p:cNvSpPr/>
          <p:nvPr/>
        </p:nvSpPr>
        <p:spPr>
          <a:xfrm>
            <a:off x="0" y="333360"/>
            <a:ext cx="9144000" cy="504720"/>
          </a:xfrm>
          <a:prstGeom prst="rect">
            <a:avLst/>
          </a:prstGeom>
          <a:solidFill>
            <a:srgbClr val="582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137040" algn="ct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pperplate Gothic Light"/>
              </a:rPr>
              <a:t>Itinerario Formativo</a:t>
            </a:r>
            <a:endParaRPr b="0" lang="en-US" sz="2800" spc="-1" strike="noStrike">
              <a:solidFill>
                <a:srgbClr val="663300"/>
              </a:solidFill>
              <a:latin typeface="Maiandra GD"/>
            </a:endParaRPr>
          </a:p>
        </p:txBody>
      </p:sp>
      <p:pic>
        <p:nvPicPr>
          <p:cNvPr id="219" name="Picture 60" descr="LOGO CAMINANTES"/>
          <p:cNvPicPr/>
          <p:nvPr/>
        </p:nvPicPr>
        <p:blipFill>
          <a:blip r:embed="rId2"/>
          <a:stretch/>
        </p:blipFill>
        <p:spPr>
          <a:xfrm>
            <a:off x="250920" y="115920"/>
            <a:ext cx="122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pic>
        <p:nvPicPr>
          <p:cNvPr id="221" name="Picture 14" descr="CAMINANTES 3"/>
          <p:cNvPicPr/>
          <p:nvPr/>
        </p:nvPicPr>
        <p:blipFill>
          <a:blip r:embed="rId1"/>
          <a:stretch/>
        </p:blipFill>
        <p:spPr>
          <a:xfrm>
            <a:off x="5580000" y="1628640"/>
            <a:ext cx="3240000" cy="39610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745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ctr">
            <a:noAutofit/>
          </a:bodyPr>
          <a:p>
            <a:pPr marL="199080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pperplate Gothic Light"/>
              </a:rPr>
              <a:t>“</a:t>
            </a:r>
            <a:r>
              <a:rPr b="0" lang="es-ES" sz="3600" spc="-1" strike="noStrike">
                <a:solidFill>
                  <a:srgbClr val="ffffff"/>
                </a:solidFill>
                <a:latin typeface="Copperplate Gothic Light"/>
              </a:rPr>
              <a:t>Atentos al llamado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1218960"/>
            <a:ext cx="4895640" cy="13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Maiandra GD"/>
              </a:rPr>
              <a:t>Objetivo: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iciar que los prejuveniles reconozcan en su experiencia cotidiana el llamado de Dios a ser sus hijos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5486400" y="5715000"/>
            <a:ext cx="3382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aiandra GD"/>
              </a:rPr>
              <a:t>Dura un semestre pastoral</a:t>
            </a:r>
            <a:endParaRPr b="0" lang="en-US" sz="1800" spc="-1" strike="noStrike">
              <a:solidFill>
                <a:srgbClr val="663300"/>
              </a:solidFill>
              <a:latin typeface="Maiandra G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696960" y="2743200"/>
            <a:ext cx="3494160" cy="37339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Maiandra GD"/>
              </a:rPr>
              <a:t>ENCUENTROS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- Jornada de Convocación: “La aventura de ser hijos de Dios”. 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1) “Buscando… ¿qué?”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2) “Estar atentos a la voz de Dios”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3) “Mis tiempos son para ti, Señor”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4) “¡Ustedes son importantes para mí!”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5) “Con un corazón inquieto”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6) “¡Libres de verdad!”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7) “Del Dios del temor al Dios del amor”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8) “Yo tengo un sueño para ti”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- Jornada de Paso: “El llamado a la Aventura”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pic>
        <p:nvPicPr>
          <p:cNvPr id="226" name="Picture 13" descr="LOGO CAMINANTES"/>
          <p:cNvPicPr/>
          <p:nvPr/>
        </p:nvPicPr>
        <p:blipFill>
          <a:blip r:embed="rId2"/>
          <a:stretch/>
        </p:blipFill>
        <p:spPr>
          <a:xfrm>
            <a:off x="250920" y="201600"/>
            <a:ext cx="122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745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ctr">
            <a:noAutofit/>
          </a:bodyPr>
          <a:p>
            <a:pPr marL="198900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pperplate Gothic Light"/>
              </a:rPr>
              <a:t>“</a:t>
            </a:r>
            <a:r>
              <a:rPr b="0" lang="es-ES" sz="4000" spc="-1" strike="noStrike">
                <a:solidFill>
                  <a:srgbClr val="ffffff"/>
                </a:solidFill>
                <a:latin typeface="Copperplate Gothic Light"/>
              </a:rPr>
              <a:t>Preparando el viaj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1341360"/>
            <a:ext cx="51055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aiandra GD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luminados por la experiencia de conformación del Pueblo de Israel, capacitar a los prejuveniles para afrontar la misión de configurarse como hijos de Dios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5148360" y="5300640"/>
            <a:ext cx="3816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aiandra GD"/>
              </a:rPr>
              <a:t>Dura un año y consta de 5 bloques temáticos dedicados a fortalecer  </a:t>
            </a:r>
            <a:endParaRPr b="0" lang="en-US" sz="1800" spc="-1" strike="noStrike">
              <a:solidFill>
                <a:srgbClr val="663300"/>
              </a:solidFill>
              <a:latin typeface="Maiandra G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aiandra GD"/>
              </a:rPr>
              <a:t>5 áreas formativas.  </a:t>
            </a:r>
            <a:endParaRPr b="0" lang="en-US" sz="1800" spc="-1" strike="noStrike">
              <a:solidFill>
                <a:srgbClr val="663300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428760" y="3429000"/>
            <a:ext cx="4572000" cy="30002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Maiandra GD"/>
              </a:rPr>
              <a:t>5 BLOQUES TEMÁTICOS</a:t>
            </a:r>
            <a:r>
              <a:rPr b="0" lang="es-ES" sz="1800" spc="-1" strike="noStrike">
                <a:solidFill>
                  <a:srgbClr val="000000"/>
                </a:solidFill>
                <a:latin typeface="Maiandra GD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Maiandra GD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a) “Somos Pueblo de Dios”: Integración de la tribu (7 encuentros)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b) “Luz para mi camino”: Formación en la fe (7 encuentros)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c) “A la conquista de nuestra tierra”: Afectividad (Campamento de verano)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d) “Libres para el Señor”: Autonomía (6 encuentros)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e) “Ver con los ojos del Señor”. Realidad social (6 encuentros)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pic>
        <p:nvPicPr>
          <p:cNvPr id="232" name="Picture 13" descr="LOGO CAMINANTES"/>
          <p:cNvPicPr/>
          <p:nvPr/>
        </p:nvPicPr>
        <p:blipFill>
          <a:blip r:embed="rId1"/>
          <a:stretch/>
        </p:blipFill>
        <p:spPr>
          <a:xfrm>
            <a:off x="250920" y="189000"/>
            <a:ext cx="1224000" cy="1066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4" descr="CAMI5"/>
          <p:cNvPicPr/>
          <p:nvPr/>
        </p:nvPicPr>
        <p:blipFill>
          <a:blip r:embed="rId2"/>
          <a:stretch/>
        </p:blipFill>
        <p:spPr>
          <a:xfrm>
            <a:off x="5229360" y="1924200"/>
            <a:ext cx="37353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669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745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ctr">
            <a:noAutofit/>
          </a:bodyPr>
          <a:p>
            <a:pPr marL="2763720" indent="0">
              <a:lnSpc>
                <a:spcPct val="10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pperplate Gothic Light"/>
              </a:rPr>
              <a:t>“</a:t>
            </a:r>
            <a:r>
              <a:rPr b="0" lang="es-ES" sz="3600" spc="-1" strike="noStrike">
                <a:solidFill>
                  <a:srgbClr val="ffffff"/>
                </a:solidFill>
                <a:latin typeface="Copperplate Gothic Light"/>
              </a:rPr>
              <a:t>Viviendo la Aventura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5040360" y="6357960"/>
            <a:ext cx="4103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aiandra GD"/>
              </a:rPr>
              <a:t>Dura un año pastoral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57480" y="1143000"/>
            <a:ext cx="367164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aiandra GD"/>
              </a:rPr>
              <a:t>Objetivo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428760" y="1560600"/>
            <a:ext cx="818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partir de la experiencia vivida por el Pueblo de Israel en el exilio, poner a prueba los aprendizajes adquiridos por los prejuveniles en vistas a configurarse como hijos de Dios.</a:t>
            </a: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</p:txBody>
      </p:sp>
      <p:pic>
        <p:nvPicPr>
          <p:cNvPr id="239" name="Picture 12" descr="LOGO CAMINANTES"/>
          <p:cNvPicPr/>
          <p:nvPr/>
        </p:nvPicPr>
        <p:blipFill>
          <a:blip r:embed="rId1"/>
          <a:stretch/>
        </p:blipFill>
        <p:spPr>
          <a:xfrm>
            <a:off x="250920" y="189000"/>
            <a:ext cx="1224000" cy="1066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3" descr="aergaergaer"/>
          <p:cNvPicPr/>
          <p:nvPr/>
        </p:nvPicPr>
        <p:blipFill>
          <a:blip r:embed="rId2"/>
          <a:stretch/>
        </p:blipFill>
        <p:spPr>
          <a:xfrm>
            <a:off x="0" y="2571840"/>
            <a:ext cx="3014640" cy="42861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0"/>
          <p:cNvSpPr/>
          <p:nvPr/>
        </p:nvSpPr>
        <p:spPr>
          <a:xfrm>
            <a:off x="3286080" y="2714760"/>
            <a:ext cx="5429160" cy="3714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Maiandra GD"/>
              </a:rPr>
              <a:t>Consta de 8 Pruebas (Proyectos de Acción), dos jornadas y un campamento de verano</a:t>
            </a:r>
            <a:r>
              <a:rPr b="0" lang="es-ES" sz="1800" spc="-1" strike="noStrike">
                <a:solidFill>
                  <a:srgbClr val="000000"/>
                </a:solidFill>
                <a:latin typeface="Maiandra GD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Maiandra GD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Maiandra GD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Maiandra G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Por un comunidad discípula misionera” (Comunidad Eclesial). 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Maiandra G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Por una tierra de hermanos” (barrio). 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Maiandra G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Escuelas de Paz” (colegio). 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Maiandra G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La fiesta de los hijos de Dios” (carrete). 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Maiandra G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Vivir como familia de Dios” (familia). 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Maiandra G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Por un uso de internet al servicio del Reino” (internet). 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Maiandra G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Guardianes de la creación” (medio ambiente). 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Maiandra G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El Resto Fiel” (tribu). 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Maiandra G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Campamento de Verano: “Somos el Resto Fiel del Señor”. 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Maiandra G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04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pperplate Gothic Light"/>
              </a:rPr>
              <a:t>        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Copperplate Gothic Light"/>
              </a:rPr>
              <a:t>METODOLOGÍA TERCER EPISODIO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7" descr="LOGO CAMINANTES"/>
          <p:cNvPicPr/>
          <p:nvPr/>
        </p:nvPicPr>
        <p:blipFill>
          <a:blip r:embed="rId1"/>
          <a:stretch/>
        </p:blipFill>
        <p:spPr>
          <a:xfrm>
            <a:off x="250920" y="115920"/>
            <a:ext cx="12240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380880" y="1523880"/>
          <a:ext cx="8534520" cy="3810240"/>
        </p:xfrm>
        <a:graphic>
          <a:graphicData uri="http://schemas.openxmlformats.org/drawingml/2006/table">
            <a:tbl>
              <a:tblPr/>
              <a:tblGrid>
                <a:gridCol w="1219320"/>
                <a:gridCol w="990720"/>
                <a:gridCol w="1143000"/>
                <a:gridCol w="914400"/>
                <a:gridCol w="990360"/>
                <a:gridCol w="990720"/>
                <a:gridCol w="1219320"/>
                <a:gridCol w="1066680"/>
              </a:tblGrid>
              <a:tr h="53352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UCTURA DE LA PRUEBA O PROYECTOS DE ACCIÓN</a:t>
                      </a:r>
                      <a:endParaRPr b="0" lang="en-US" sz="16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132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OS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71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71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ZGAR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716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R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716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R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71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EBRAR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716f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NTROS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71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 con los ojos del Señor”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xionar a la luz del Reino de Dios”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r como hijos de Dios” (1)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r como hijos de Dios” (2)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r como hijos de Dios” (3)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Fiesta de las Luces”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VE DESCRIPCIÓN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471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 y reconoci-miento del desafío.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erni-miento, movido por el Espíritu, del Proyecto de Acción a realizar. 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ifica-ción del Proyecto de Acción.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ción del Proyecto de Acción.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 grupal del Proyecto de Acción y de los servicios.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ebración del término de la(s) prueba(s). Elección de la siguiente.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745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ctr">
            <a:noAutofit/>
          </a:bodyPr>
          <a:p>
            <a:pPr marL="3332160" indent="0">
              <a:lnSpc>
                <a:spcPct val="10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pperplate Gothic Light"/>
              </a:rPr>
              <a:t>“</a:t>
            </a:r>
            <a:r>
              <a:rPr b="0" lang="es-ES" sz="4000" spc="-1" strike="noStrike">
                <a:solidFill>
                  <a:srgbClr val="ffffff"/>
                </a:solidFill>
                <a:latin typeface="Copperplate Gothic Light"/>
              </a:rPr>
              <a:t>De vuelta a cas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613200" y="1158480"/>
            <a:ext cx="217332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Maiandra GD"/>
              </a:rPr>
              <a:t>Objetivo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4786200" y="6086520"/>
            <a:ext cx="3384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aiandra GD"/>
              </a:rPr>
              <a:t>Dura poco más de un mes. </a:t>
            </a:r>
            <a:endParaRPr b="0" lang="en-US" sz="1800" spc="-1" strike="noStrike">
              <a:solidFill>
                <a:srgbClr val="663300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428760" y="1643040"/>
            <a:ext cx="818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partir de la experiencia vivida por el Pueblo de Israel en el retorno a Jerusalén y en la espera del Mesías, facilitar que los prejuveniles resignifiquen su identidad en perspectiva de hijos de Dios Padre.</a:t>
            </a: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</p:txBody>
      </p:sp>
      <p:pic>
        <p:nvPicPr>
          <p:cNvPr id="250" name="Picture 12" descr="LOGO CAMINANTES"/>
          <p:cNvPicPr/>
          <p:nvPr/>
        </p:nvPicPr>
        <p:blipFill>
          <a:blip r:embed="rId1"/>
          <a:stretch/>
        </p:blipFill>
        <p:spPr>
          <a:xfrm>
            <a:off x="250920" y="189000"/>
            <a:ext cx="1224000" cy="1066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" descr="cami2"/>
          <p:cNvPicPr/>
          <p:nvPr/>
        </p:nvPicPr>
        <p:blipFill>
          <a:blip r:embed="rId2"/>
          <a:stretch/>
        </p:blipFill>
        <p:spPr>
          <a:xfrm>
            <a:off x="0" y="2692440"/>
            <a:ext cx="3809880" cy="41655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0"/>
          <p:cNvSpPr/>
          <p:nvPr/>
        </p:nvSpPr>
        <p:spPr>
          <a:xfrm>
            <a:off x="4429080" y="2786040"/>
            <a:ext cx="4286160" cy="3357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Maiandra GD"/>
              </a:rPr>
              <a:t>Consta de 5 encuentros y un campamento de verano: </a:t>
            </a:r>
            <a:endParaRPr b="0" lang="en-US" sz="18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Abriré los labios para contar mi historia”. 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Las huellas de nuestro caminar”. 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Con lazos de amor nos atrajiste”. 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Soy y vivo como hijo de Dios”. 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Una misión para toda la vida”. 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aiandra GD"/>
              </a:rPr>
              <a:t>Campamento de Verano: “¡Hemos encontrado al Mesías!” . 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Maiandra GD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7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04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pperplate Gothic Light"/>
              </a:rPr>
              <a:t>    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Copperplate Gothic Light"/>
              </a:rPr>
              <a:t>METODOLOGÍA CUARTO EPISODIO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97" descr="LOGO CAMINANTES"/>
          <p:cNvPicPr/>
          <p:nvPr/>
        </p:nvPicPr>
        <p:blipFill>
          <a:blip r:embed="rId1"/>
          <a:stretch/>
        </p:blipFill>
        <p:spPr>
          <a:xfrm>
            <a:off x="250920" y="115920"/>
            <a:ext cx="12240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571680" y="1447920"/>
          <a:ext cx="8191440" cy="4410000"/>
        </p:xfrm>
        <a:graphic>
          <a:graphicData uri="http://schemas.openxmlformats.org/drawingml/2006/table">
            <a:tbl>
              <a:tblPr/>
              <a:tblGrid>
                <a:gridCol w="1500120"/>
                <a:gridCol w="1798560"/>
                <a:gridCol w="1631880"/>
                <a:gridCol w="1630440"/>
                <a:gridCol w="1630440"/>
              </a:tblGrid>
              <a:tr h="17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NTROS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c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er Encuentro: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iré los labios para contar mi historia”.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 Encuentro: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huellas de nuestro caminar”.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cer Encuentro: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lazos de amor nos atrajiste”.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rto Encuentro: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¡Soy y vivo como hijo de Dios!”.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to Encuentro: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misión para toda la vida”.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pamento de Verano: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¡Hemos encontrado al Mesías!”.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VE DESCRIPCIÓN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c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ar y recuperar la aventura vivida.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ernir para reconocer la acción de Dios en ella.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uchar los llamados de Dios para seguir viviendo como hijos Suyos.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ntro con Jesucristo, el Mesías esperado, y llamado a seguirlo para llegar a ser Sus discípulos misioneros.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c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GER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c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ADECER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c2f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AR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c2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FIGURAR LA PROPIA IDENTIDAD COMO HIJO DE DIOS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9c2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04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ctr">
            <a:noAutofit/>
          </a:bodyPr>
          <a:p>
            <a:pPr marL="23893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pperplate Gothic Light"/>
              </a:rPr>
              <a:t>ESTRUCTURA DE ENCUEN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97" descr="LOGO CAMINANTES"/>
          <p:cNvPicPr/>
          <p:nvPr/>
        </p:nvPicPr>
        <p:blipFill>
          <a:blip r:embed="rId1"/>
          <a:stretch/>
        </p:blipFill>
        <p:spPr>
          <a:xfrm>
            <a:off x="250920" y="115920"/>
            <a:ext cx="12240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"/>
          <p:cNvGraphicFramePr/>
          <p:nvPr/>
        </p:nvGraphicFramePr>
        <p:xfrm>
          <a:off x="684360" y="1397160"/>
          <a:ext cx="7991280" cy="462420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6960"/>
                <a:gridCol w="1598760"/>
                <a:gridCol w="1598400"/>
              </a:tblGrid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tido y nombre de momentos en cada Episodio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er Episodio: “ATENTOS AL LLAMADO”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df4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gundo Episodio: “PREPARANDO EL VIAJE”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ae1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cer Episodio: “VIVIENDO LA AVENTURA”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3d0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arto Episodio: “DE VUELTA A CASA”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ogida e integración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s encontramos”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df4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y fiesta en Betel”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ae1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to a los ríos de Babilonia”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3d0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 aquí tus hijos que regresan”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112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gida de la experiencia; se intenciona tema a trabajar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s damos cuenta”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df4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la Tienda del Encuentro”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ae1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el cautiverio”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3d0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tus umbrales, Jerusalén”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uminación bíblica y vuelta a la experiencia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voz de la Palabra”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df4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alzos en el Monte Sinaí”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ae1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áculo del Señor”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3d0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el templo de Jerusalén”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ebración final y envío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nerse en camino”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f4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cia la Tierra Prometida”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cae1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resto fiel”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3d0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a espera del Mesías”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Maiandra G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17"/>
          <p:cNvSpPr/>
          <p:nvPr/>
        </p:nvSpPr>
        <p:spPr>
          <a:xfrm rot="703800">
            <a:off x="684360" y="-631440"/>
            <a:ext cx="8243640" cy="7489800"/>
          </a:xfrm>
          <a:prstGeom prst="sun">
            <a:avLst>
              <a:gd name="adj" fmla="val 25000"/>
            </a:avLst>
          </a:prstGeom>
          <a:solidFill>
            <a:srgbClr val="ffcc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44" name="AutoShape 9"/>
          <p:cNvSpPr/>
          <p:nvPr/>
        </p:nvSpPr>
        <p:spPr>
          <a:xfrm rot="703800">
            <a:off x="1547640" y="1268280"/>
            <a:ext cx="5759640" cy="496728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pic>
        <p:nvPicPr>
          <p:cNvPr id="145" name="Picture 4" descr="CAMI"/>
          <p:cNvPicPr/>
          <p:nvPr/>
        </p:nvPicPr>
        <p:blipFill>
          <a:blip r:embed="rId1"/>
          <a:stretch/>
        </p:blipFill>
        <p:spPr>
          <a:xfrm>
            <a:off x="3132000" y="2349360"/>
            <a:ext cx="2678400" cy="32274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0" y="476280"/>
            <a:ext cx="9144000" cy="504720"/>
          </a:xfrm>
          <a:prstGeom prst="rect">
            <a:avLst/>
          </a:prstGeom>
          <a:solidFill>
            <a:srgbClr val="582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049720"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Maiandra GD"/>
              </a:rPr>
              <a:t>LOS PREJUVENILES</a:t>
            </a:r>
            <a:endParaRPr b="0" lang="en-US" sz="2800" spc="-1" strike="noStrike">
              <a:solidFill>
                <a:srgbClr val="663300"/>
              </a:solidFill>
              <a:latin typeface="Maiandra GD"/>
            </a:endParaRPr>
          </a:p>
        </p:txBody>
      </p:sp>
      <p:pic>
        <p:nvPicPr>
          <p:cNvPr id="147" name="Picture 6" descr="LOGO CAMINANTES"/>
          <p:cNvPicPr/>
          <p:nvPr/>
        </p:nvPicPr>
        <p:blipFill>
          <a:blip r:embed="rId2"/>
          <a:stretch/>
        </p:blipFill>
        <p:spPr>
          <a:xfrm>
            <a:off x="250920" y="260280"/>
            <a:ext cx="1224000" cy="10670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1"/>
          <p:cNvSpPr/>
          <p:nvPr/>
        </p:nvSpPr>
        <p:spPr>
          <a:xfrm>
            <a:off x="4729320" y="1349280"/>
            <a:ext cx="21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Maiandra GD"/>
              </a:rPr>
              <a:t>Con los Pares</a:t>
            </a:r>
            <a:endParaRPr b="0" lang="en-US" sz="28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1817640" y="1231920"/>
            <a:ext cx="21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Maiandra GD"/>
              </a:rPr>
              <a:t>Con los Adultos</a:t>
            </a:r>
            <a:endParaRPr b="0" lang="en-US" sz="28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539640" y="436572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Maiandra GD"/>
              </a:rPr>
              <a:t>Afectividad y Sexualidad</a:t>
            </a:r>
            <a:endParaRPr b="0" lang="en-US" sz="28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684360" y="2952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Maiandra GD"/>
              </a:rPr>
              <a:t>Religiosidad</a:t>
            </a:r>
            <a:endParaRPr b="0" lang="en-US" sz="28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6227640" y="278604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Maiandra GD"/>
              </a:rPr>
              <a:t>Nuevas Tecnologías</a:t>
            </a:r>
            <a:endParaRPr b="0" lang="en-US" sz="28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5867280" y="4365720"/>
            <a:ext cx="21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Maiandra GD"/>
              </a:rPr>
              <a:t>Culturas Juveniles</a:t>
            </a:r>
            <a:endParaRPr b="0" lang="en-US" sz="2800" spc="-1" strike="noStrike">
              <a:solidFill>
                <a:srgbClr val="663300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04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ctr">
            <a:noAutofit/>
          </a:bodyPr>
          <a:p>
            <a:pPr marL="5427720" indent="0">
              <a:lnSpc>
                <a:spcPct val="100000"/>
              </a:lnSpc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pperplate Gothic Light"/>
              </a:rPr>
              <a:t>Implementación</a:t>
            </a:r>
            <a:r>
              <a:rPr b="0" lang="es-ES_tradnl" sz="2800" spc="-1" strike="noStrike">
                <a:solidFill>
                  <a:srgbClr val="ffffff"/>
                </a:solidFill>
                <a:latin typeface="Maiandra G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838080" y="1341360"/>
            <a:ext cx="7639200" cy="33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Maiandra GD"/>
              </a:rPr>
              <a:t>Entrada</a:t>
            </a: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 a Caminantes: niños que están terminando (o han terminado) el proceso de la Catequesis Familiar y otros niños (de aproximadamente 10 años) vinculados a la Unidad Pastoral son invitados a participar de una Jornada de Convocación inicial. </a:t>
            </a: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  <a:p>
            <a:pPr algn="just"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  <a:p>
            <a:pPr algn="just"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El </a:t>
            </a:r>
            <a:r>
              <a:rPr b="1" lang="es-ES_tradnl" sz="2000" spc="-1" strike="noStrike">
                <a:solidFill>
                  <a:srgbClr val="000000"/>
                </a:solidFill>
                <a:latin typeface="Maiandra GD"/>
              </a:rPr>
              <a:t>proceso completo</a:t>
            </a: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 está pensando para durar </a:t>
            </a:r>
            <a:r>
              <a:rPr b="1" lang="es-ES_tradnl" sz="2000" spc="-1" strike="noStrike">
                <a:solidFill>
                  <a:srgbClr val="000000"/>
                </a:solidFill>
                <a:latin typeface="Maiandra GD"/>
              </a:rPr>
              <a:t>3 años</a:t>
            </a: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. Los pasos de etapa son en la mitad del año pastoral y se contempla realizar un campamento de verano (entre el primer y segundo año) y un retiro (entre el  segundo y tercero) para mantener la continuidad del proceso. </a:t>
            </a: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914400" y="4724280"/>
            <a:ext cx="571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Al </a:t>
            </a:r>
            <a:r>
              <a:rPr b="1" lang="es-ES_tradnl" sz="2000" spc="-1" strike="noStrike">
                <a:solidFill>
                  <a:srgbClr val="000000"/>
                </a:solidFill>
                <a:latin typeface="Maiandra GD"/>
              </a:rPr>
              <a:t>terminar</a:t>
            </a: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 el proceso de Caminantes, serán invitados a participar de la </a:t>
            </a:r>
            <a:r>
              <a:rPr b="1" lang="es-ES_tradnl" sz="2000" spc="-1" strike="noStrike">
                <a:solidFill>
                  <a:srgbClr val="000000"/>
                </a:solidFill>
                <a:latin typeface="Maiandra GD"/>
              </a:rPr>
              <a:t>Pastoral Juvenil</a:t>
            </a: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, siendo ellos misioneros convocantes de otros jóvenes. </a:t>
            </a: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</p:txBody>
      </p:sp>
      <p:pic>
        <p:nvPicPr>
          <p:cNvPr id="262" name="Picture 19" descr="LOGO CAMINANTES"/>
          <p:cNvPicPr/>
          <p:nvPr/>
        </p:nvPicPr>
        <p:blipFill>
          <a:blip r:embed="rId1"/>
          <a:stretch/>
        </p:blipFill>
        <p:spPr>
          <a:xfrm>
            <a:off x="250920" y="115920"/>
            <a:ext cx="1224000" cy="10666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peregrinos"/>
          <p:cNvPicPr/>
          <p:nvPr/>
        </p:nvPicPr>
        <p:blipFill>
          <a:blip r:embed="rId2"/>
          <a:stretch/>
        </p:blipFill>
        <p:spPr>
          <a:xfrm rot="503400">
            <a:off x="6876720" y="4436640"/>
            <a:ext cx="15588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762120" y="1628640"/>
            <a:ext cx="77706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aiandra GD"/>
              </a:rPr>
              <a:t>Dos tipos de agentes pastorales acompañan el proceso: </a:t>
            </a:r>
            <a:endParaRPr b="0" lang="en-US" sz="2400" spc="-1" strike="noStrike">
              <a:solidFill>
                <a:srgbClr val="663300"/>
              </a:solidFill>
              <a:latin typeface="Maiandra GD"/>
            </a:endParaRPr>
          </a:p>
          <a:p>
            <a:pPr algn="just">
              <a:spcBef>
                <a:spcPts val="60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Maiandra GD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Maiandra GD"/>
                <a:ea typeface="ＭＳ Ｐゴシック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Maiandra GD"/>
                <a:ea typeface="ＭＳ Ｐゴシック"/>
              </a:rPr>
              <a:t>Animadores</a:t>
            </a:r>
            <a:r>
              <a:rPr b="0" lang="es-ES_tradnl" sz="2000" spc="-1" strike="noStrike">
                <a:solidFill>
                  <a:srgbClr val="000000"/>
                </a:solidFill>
                <a:latin typeface="Maiandra GD"/>
                <a:ea typeface="ＭＳ Ｐゴシック"/>
              </a:rPr>
              <a:t>: jóvenes confirmados con capacidad de liderazgo y de trabajo con prejuveniles. Son los acompañantes directos de los Caminantes en las tribus. </a:t>
            </a: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Maiandra GD"/>
                <a:ea typeface="ＭＳ Ｐゴシック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Maiandra GD"/>
                <a:ea typeface="ＭＳ Ｐゴシック"/>
              </a:rPr>
              <a:t>Asesores</a:t>
            </a:r>
            <a:r>
              <a:rPr b="0" lang="es-ES_tradnl" sz="2000" spc="-1" strike="noStrike">
                <a:solidFill>
                  <a:srgbClr val="000000"/>
                </a:solidFill>
                <a:latin typeface="Maiandra GD"/>
                <a:ea typeface="ＭＳ Ｐゴシック"/>
              </a:rPr>
              <a:t>: adultos jóvenes de a lo menos 22 años que conozcan en profundidad el Proyecto. Son quienes acompañan al equipo de animadores y quienes guían el proceso formativo de la Pastoral. También son los que animan los momentos en Asamblea y las Jornadas. </a:t>
            </a: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04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ctr">
            <a:noAutofit/>
          </a:bodyPr>
          <a:p>
            <a:pPr marL="5427720" indent="0">
              <a:lnSpc>
                <a:spcPct val="100000"/>
              </a:lnSpc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pperplate Gothic Light"/>
              </a:rPr>
              <a:t>Implementación</a:t>
            </a:r>
            <a:r>
              <a:rPr b="0" lang="es-ES_tradnl" sz="2800" spc="-1" strike="noStrike">
                <a:solidFill>
                  <a:srgbClr val="ffffff"/>
                </a:solidFill>
                <a:latin typeface="Maiandra G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4" descr="LOGO CAMINANTES"/>
          <p:cNvPicPr/>
          <p:nvPr/>
        </p:nvPicPr>
        <p:blipFill>
          <a:blip r:embed="rId1"/>
          <a:stretch/>
        </p:blipFill>
        <p:spPr>
          <a:xfrm>
            <a:off x="250920" y="115920"/>
            <a:ext cx="122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1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68" name="Rectangle 20"/>
          <p:cNvSpPr/>
          <p:nvPr/>
        </p:nvSpPr>
        <p:spPr>
          <a:xfrm>
            <a:off x="0" y="0"/>
            <a:ext cx="9144000" cy="4365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pic>
        <p:nvPicPr>
          <p:cNvPr id="269" name="Picture 17" descr="LOGO CAMINANTES"/>
          <p:cNvPicPr/>
          <p:nvPr/>
        </p:nvPicPr>
        <p:blipFill>
          <a:blip r:embed="rId1"/>
          <a:stretch/>
        </p:blipFill>
        <p:spPr>
          <a:xfrm>
            <a:off x="2052720" y="115920"/>
            <a:ext cx="4680000" cy="4056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8" descr="logo inpas mejor resolucion"/>
          <p:cNvPicPr/>
          <p:nvPr/>
        </p:nvPicPr>
        <p:blipFill>
          <a:blip r:embed="rId2"/>
          <a:stretch/>
        </p:blipFill>
        <p:spPr>
          <a:xfrm>
            <a:off x="5038560" y="4653000"/>
            <a:ext cx="2270160" cy="1344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9" descr="logo_vej"/>
          <p:cNvPicPr/>
          <p:nvPr/>
        </p:nvPicPr>
        <p:blipFill>
          <a:blip r:embed="rId3"/>
          <a:stretch/>
        </p:blipFill>
        <p:spPr>
          <a:xfrm>
            <a:off x="1979640" y="4437000"/>
            <a:ext cx="1474920" cy="1656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22"/>
          <p:cNvSpPr/>
          <p:nvPr/>
        </p:nvSpPr>
        <p:spPr>
          <a:xfrm>
            <a:off x="535680" y="6116760"/>
            <a:ext cx="317844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Maiandra GD"/>
              </a:rPr>
              <a:t>www.esperanzajoven.cl</a:t>
            </a:r>
            <a:endParaRPr b="0" lang="en-US" sz="1600" spc="-1" strike="noStrike">
              <a:solidFill>
                <a:srgbClr val="663300"/>
              </a:solidFill>
              <a:latin typeface="Maiandra GD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Maiandra GD"/>
              </a:rPr>
              <a:t>Facebook: vicaria de la esperanza joven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4824000" y="6189840"/>
            <a:ext cx="422388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Maiandra GD"/>
              </a:rPr>
              <a:t>www.inpas.cl</a:t>
            </a:r>
            <a:endParaRPr b="0" lang="en-US" sz="1600" spc="-1" strike="noStrike">
              <a:solidFill>
                <a:srgbClr val="663300"/>
              </a:solidFill>
              <a:latin typeface="Maiandra GD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Maiandra GD"/>
              </a:rPr>
              <a:t>Facebook: INSTITUTO PASTORAL APOSTOL SANTIAGO</a:t>
            </a:r>
            <a:endParaRPr b="0" lang="en-US" sz="1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274" name="Line 24"/>
          <p:cNvSpPr/>
          <p:nvPr/>
        </p:nvSpPr>
        <p:spPr>
          <a:xfrm flipH="1">
            <a:off x="3706560" y="59500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CAMI"/>
          <p:cNvPicPr/>
          <p:nvPr/>
        </p:nvPicPr>
        <p:blipFill>
          <a:blip r:embed="rId1"/>
          <a:stretch/>
        </p:blipFill>
        <p:spPr>
          <a:xfrm>
            <a:off x="3419640" y="2565360"/>
            <a:ext cx="2319120" cy="27957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0" y="476280"/>
            <a:ext cx="9144000" cy="504720"/>
          </a:xfrm>
          <a:prstGeom prst="rect">
            <a:avLst/>
          </a:prstGeom>
          <a:solidFill>
            <a:srgbClr val="582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Maiandra GD"/>
              </a:rPr>
              <a:t>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Maiandra GD"/>
              </a:rPr>
              <a:t>LOS PREJUVENILES      </a:t>
            </a:r>
            <a:endParaRPr b="0" lang="en-US" sz="2800" spc="-1" strike="noStrike">
              <a:solidFill>
                <a:srgbClr val="663300"/>
              </a:solidFill>
              <a:latin typeface="Maiandra GD"/>
            </a:endParaRPr>
          </a:p>
        </p:txBody>
      </p:sp>
      <p:pic>
        <p:nvPicPr>
          <p:cNvPr id="156" name="Picture 6" descr="LOGO CAMINANTES"/>
          <p:cNvPicPr/>
          <p:nvPr/>
        </p:nvPicPr>
        <p:blipFill>
          <a:blip r:embed="rId2"/>
          <a:stretch/>
        </p:blipFill>
        <p:spPr>
          <a:xfrm>
            <a:off x="250920" y="260280"/>
            <a:ext cx="1224000" cy="1067040"/>
          </a:xfrm>
          <a:prstGeom prst="rect">
            <a:avLst/>
          </a:prstGeom>
          <a:ln w="0">
            <a:noFill/>
          </a:ln>
        </p:spPr>
      </p:pic>
      <p:sp>
        <p:nvSpPr>
          <p:cNvPr id="157" name="Oval 10"/>
          <p:cNvSpPr/>
          <p:nvPr/>
        </p:nvSpPr>
        <p:spPr>
          <a:xfrm>
            <a:off x="2700360" y="1989000"/>
            <a:ext cx="3887640" cy="3745080"/>
          </a:xfrm>
          <a:prstGeom prst="ellipse">
            <a:avLst/>
          </a:prstGeom>
          <a:solidFill>
            <a:srgbClr val="ffff00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58" name="AutoShape 9"/>
          <p:cNvSpPr/>
          <p:nvPr/>
        </p:nvSpPr>
        <p:spPr>
          <a:xfrm rot="10064400">
            <a:off x="2195280" y="3933720"/>
            <a:ext cx="1152360" cy="432000"/>
          </a:xfrm>
          <a:custGeom>
            <a:avLst/>
            <a:gdLst>
              <a:gd name="textAreaLeft" fmla="*/ 144000 w 1152360"/>
              <a:gd name="textAreaRight" fmla="*/ 1008360 w 1152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59" name="AutoShape 7"/>
          <p:cNvSpPr/>
          <p:nvPr/>
        </p:nvSpPr>
        <p:spPr>
          <a:xfrm rot="946200">
            <a:off x="5795640" y="4365720"/>
            <a:ext cx="1152360" cy="431640"/>
          </a:xfrm>
          <a:custGeom>
            <a:avLst/>
            <a:gdLst>
              <a:gd name="textAreaLeft" fmla="*/ 144000 w 1152360"/>
              <a:gd name="textAreaRight" fmla="*/ 1008360 w 1152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60" name="AutoShape 8"/>
          <p:cNvSpPr/>
          <p:nvPr/>
        </p:nvSpPr>
        <p:spPr>
          <a:xfrm rot="19482600">
            <a:off x="5651280" y="2349360"/>
            <a:ext cx="1152360" cy="432000"/>
          </a:xfrm>
          <a:custGeom>
            <a:avLst/>
            <a:gdLst>
              <a:gd name="textAreaLeft" fmla="*/ 144000 w 1152360"/>
              <a:gd name="textAreaRight" fmla="*/ 1008360 w 1152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6661080" y="161928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Maiandra GD"/>
              </a:rPr>
              <a:t>Con los demás</a:t>
            </a:r>
            <a:endParaRPr b="0" lang="en-US" sz="28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468360" y="392256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Maiandra GD"/>
              </a:rPr>
              <a:t>Con el  mundo</a:t>
            </a:r>
            <a:endParaRPr b="0" lang="en-US" sz="28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443640" y="46386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Maiandra GD"/>
              </a:rPr>
              <a:t>Con Dios</a:t>
            </a:r>
            <a:endParaRPr b="0" lang="en-US" sz="28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64" name="WordArt 14"/>
          <p:cNvSpPr txBox="1"/>
          <p:nvPr/>
        </p:nvSpPr>
        <p:spPr>
          <a:xfrm rot="20435400">
            <a:off x="2987640" y="2349360"/>
            <a:ext cx="2739960" cy="1511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 algn="ctr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sigo mism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espiral+en+ascenso"/>
          <p:cNvPicPr/>
          <p:nvPr/>
        </p:nvPicPr>
        <p:blipFill>
          <a:blip r:embed="rId1">
            <a:grayscl/>
          </a:blip>
          <a:srcRect l="0" t="0" r="0" b="2520"/>
          <a:stretch/>
        </p:blipFill>
        <p:spPr>
          <a:xfrm>
            <a:off x="-36360" y="0"/>
            <a:ext cx="9216720" cy="6854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4" descr="espiral+en+ascenso"/>
          <p:cNvPicPr/>
          <p:nvPr/>
        </p:nvPicPr>
        <p:blipFill>
          <a:blip r:embed="rId2">
            <a:lum contrast="18000"/>
          </a:blip>
          <a:srcRect l="0" t="0" r="0" b="2520"/>
          <a:stretch/>
        </p:blipFill>
        <p:spPr>
          <a:xfrm>
            <a:off x="539640" y="907920"/>
            <a:ext cx="8137800" cy="59500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0" y="476280"/>
            <a:ext cx="9144000" cy="504720"/>
          </a:xfrm>
          <a:prstGeom prst="rect">
            <a:avLst/>
          </a:prstGeom>
          <a:solidFill>
            <a:srgbClr val="582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Maiandra GD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Maiandra GD"/>
              </a:rPr>
              <a:t>CONFIGURACIÓN de la  IDENTIDAD </a:t>
            </a:r>
            <a:r>
              <a:rPr b="0" lang="es-ES_tradnl" sz="28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Maiandra GD"/>
              </a:rPr>
              <a:t>	</a:t>
            </a:r>
            <a:endParaRPr b="0" lang="en-US" sz="2800" spc="-1" strike="noStrike">
              <a:solidFill>
                <a:srgbClr val="663300"/>
              </a:solidFill>
              <a:latin typeface="Maiandra GD"/>
            </a:endParaRPr>
          </a:p>
        </p:txBody>
      </p:sp>
      <p:pic>
        <p:nvPicPr>
          <p:cNvPr id="168" name="Picture 9" descr="LOGO CAMINANTES"/>
          <p:cNvPicPr/>
          <p:nvPr/>
        </p:nvPicPr>
        <p:blipFill>
          <a:blip r:embed="rId3"/>
          <a:stretch/>
        </p:blipFill>
        <p:spPr>
          <a:xfrm>
            <a:off x="250920" y="260280"/>
            <a:ext cx="1224000" cy="1067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1258920" y="1773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63300"/>
                </a:solidFill>
                <a:latin typeface="Maiandra GD"/>
              </a:rPr>
              <a:t>DINÁMICA</a:t>
            </a: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258920" y="529740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63300"/>
                </a:solidFill>
                <a:latin typeface="Maiandra GD"/>
              </a:rPr>
              <a:t>RELACIONAL</a:t>
            </a: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148360" y="33544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63300"/>
                </a:solidFill>
                <a:latin typeface="Maiandra GD"/>
              </a:rPr>
              <a:t>PROGRESIVA</a:t>
            </a: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4408560" y="1835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826560" y="1407960"/>
            <a:ext cx="7705800" cy="15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Aparecida nos ha invitado a construir itinerarios formativos y de acompañamiento continuos (DA nº 2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Al mismo tiempo, nos ha impulsado a acompañar de manera especial la etapa de la preadolescencia (DA nº 44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0" y="485280"/>
            <a:ext cx="9144000" cy="505080"/>
          </a:xfrm>
          <a:prstGeom prst="rect">
            <a:avLst/>
          </a:prstGeom>
          <a:solidFill>
            <a:srgbClr val="582c00"/>
          </a:solidFill>
          <a:ln w="0">
            <a:noFill/>
          </a:ln>
        </p:spPr>
        <p:txBody>
          <a:bodyPr anchor="ctr">
            <a:noAutofit/>
          </a:bodyPr>
          <a:p>
            <a:pPr marL="5049720" indent="0">
              <a:lnSpc>
                <a:spcPct val="100000"/>
              </a:lnSpc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pperplate Gothic Light"/>
              </a:rPr>
              <a:t>Antece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914400" y="3124080"/>
            <a:ext cx="426708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4040"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Existe la necesidad de ofrecer un proceso de acompañamiento pastoral entre la Catequesis Familiar de Iniciación a la Vida Eucarística (CFIVE) y la Pastoral Juvenil (PJ). </a:t>
            </a: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  <a:p>
            <a:pPr indent="284040"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La aparición del Plan Pastoral de la Esperanza Joven en el año 2001 y la renovación de la CFIVE en el 2008 nos plantean un nuevo contexto en el cual pensar la Pastoral Prejuvenil. </a:t>
            </a: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</p:txBody>
      </p:sp>
      <p:pic>
        <p:nvPicPr>
          <p:cNvPr id="176" name="Picture 24" descr="Familia con Jesús VERSION LIVIANA"/>
          <p:cNvPicPr/>
          <p:nvPr/>
        </p:nvPicPr>
        <p:blipFill>
          <a:blip r:embed="rId1"/>
          <a:stretch/>
        </p:blipFill>
        <p:spPr>
          <a:xfrm>
            <a:off x="5148360" y="2924280"/>
            <a:ext cx="3456000" cy="3319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5" descr="LOGO CAMINANTES"/>
          <p:cNvPicPr/>
          <p:nvPr/>
        </p:nvPicPr>
        <p:blipFill>
          <a:blip r:embed="rId2"/>
          <a:stretch/>
        </p:blipFill>
        <p:spPr>
          <a:xfrm>
            <a:off x="250920" y="260280"/>
            <a:ext cx="122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3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066320" y="1371600"/>
            <a:ext cx="7086600" cy="14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63300"/>
                </a:solidFill>
                <a:latin typeface="Arial"/>
              </a:rPr>
              <a:t>Acompañar a los prejuveniles en el proceso de configurar su identidad, desde la experiencia del encuentro con el Dios Padre de Jesucristo, quien nos llama a ser Sus hij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514600" y="3048120"/>
            <a:ext cx="59436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00000"/>
              </a:lnSpc>
              <a:spcBef>
                <a:spcPts val="125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etapa de la preadolescencia está marcada por el proceso vital de re-configuración de la identidad. </a:t>
            </a: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  <a:p>
            <a:pPr marL="388800" indent="-388800" algn="just">
              <a:lnSpc>
                <a:spcPct val="100000"/>
              </a:lnSpc>
              <a:spcBef>
                <a:spcPts val="125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os Padre nos eligió en Cristo antes de la creación del mundo para ser adoptados como hijos Suyos por medio de Jesucristo (Ef 1, 4-5).</a:t>
            </a: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  <a:p>
            <a:pPr marL="388800" indent="-388800" algn="just">
              <a:lnSpc>
                <a:spcPct val="100000"/>
              </a:lnSpc>
              <a:spcBef>
                <a:spcPts val="125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ello, queremos acompañar este proceso desde la experiencia cristiana de sabernos y vivirnos como hijos de Dios Padre, a imagen de Jesucristo.</a:t>
            </a: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  </a:t>
            </a: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0" y="476280"/>
            <a:ext cx="9144000" cy="504720"/>
          </a:xfrm>
          <a:prstGeom prst="rect">
            <a:avLst/>
          </a:prstGeom>
          <a:solidFill>
            <a:srgbClr val="582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660920" algn="ctr"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pperplate Gothic Light"/>
              </a:rPr>
              <a:t>Objetivo General</a:t>
            </a:r>
            <a:endParaRPr b="0" lang="en-US" sz="2800" spc="-1" strike="noStrike">
              <a:solidFill>
                <a:srgbClr val="663300"/>
              </a:solidFill>
              <a:latin typeface="Maiandra GD"/>
            </a:endParaRPr>
          </a:p>
        </p:txBody>
      </p:sp>
      <p:pic>
        <p:nvPicPr>
          <p:cNvPr id="181" name="Picture 20" descr="LOGO CAMINANTES"/>
          <p:cNvPicPr/>
          <p:nvPr/>
        </p:nvPicPr>
        <p:blipFill>
          <a:blip r:embed="rId1"/>
          <a:stretch/>
        </p:blipFill>
        <p:spPr>
          <a:xfrm>
            <a:off x="250920" y="260280"/>
            <a:ext cx="1224000" cy="1067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CAMI"/>
          <p:cNvPicPr/>
          <p:nvPr/>
        </p:nvPicPr>
        <p:blipFill>
          <a:blip r:embed="rId2"/>
          <a:stretch/>
        </p:blipFill>
        <p:spPr>
          <a:xfrm>
            <a:off x="0" y="3284640"/>
            <a:ext cx="267804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533520" y="1432080"/>
            <a:ext cx="82296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7720" indent="-477720" algn="just">
              <a:spcBef>
                <a:spcPts val="125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aiandra GD"/>
              </a:rPr>
              <a:t>Ante su búsqueda de </a:t>
            </a:r>
            <a:r>
              <a:rPr b="1" lang="es-ES" sz="2000" spc="-1" strike="noStrike">
                <a:solidFill>
                  <a:srgbClr val="000000"/>
                </a:solidFill>
                <a:latin typeface="Maiandra GD"/>
              </a:rPr>
              <a:t>identidad</a:t>
            </a:r>
            <a:r>
              <a:rPr b="0" lang="es-ES" sz="2000" spc="-1" strike="noStrike">
                <a:solidFill>
                  <a:srgbClr val="000000"/>
                </a:solidFill>
                <a:latin typeface="Maiandra GD"/>
              </a:rPr>
              <a:t>, queremos acompañarlos a construirla siguiendo las huellas del Pueblo de Israel en su aventura de configurarse como Pueblo de Dios, a fin de relacionarse de una nueva manera con Dios, con los demás, consigo mismos y con la creación.</a:t>
            </a: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  <a:p>
            <a:pPr marL="477720" indent="-477720" algn="just">
              <a:spcBef>
                <a:spcPts val="125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aiandra GD"/>
              </a:rPr>
              <a:t>Ante la necesidad de </a:t>
            </a:r>
            <a:r>
              <a:rPr b="1" lang="es-ES" sz="2000" spc="-1" strike="noStrike">
                <a:solidFill>
                  <a:srgbClr val="000000"/>
                </a:solidFill>
                <a:latin typeface="Maiandra GD"/>
              </a:rPr>
              <a:t>pertenencia</a:t>
            </a:r>
            <a:r>
              <a:rPr b="0" lang="es-ES" sz="2000" spc="-1" strike="noStrike">
                <a:solidFill>
                  <a:srgbClr val="000000"/>
                </a:solidFill>
                <a:latin typeface="Maiandra GD"/>
              </a:rPr>
              <a:t>, queremos invitarlos a vivir la fraternidad comunitaria construyendo un estilo nuevo de relaciones, más libres y fundadas en la gratuidad y el amor.</a:t>
            </a: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  <a:p>
            <a:pPr marL="477720" indent="-477720" algn="just">
              <a:spcBef>
                <a:spcPts val="125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aiandra GD"/>
              </a:rPr>
              <a:t>Ante su búsqueda de </a:t>
            </a:r>
            <a:r>
              <a:rPr b="1" lang="es-ES" sz="2000" spc="-1" strike="noStrike">
                <a:solidFill>
                  <a:srgbClr val="000000"/>
                </a:solidFill>
                <a:latin typeface="Maiandra GD"/>
              </a:rPr>
              <a:t>autonomía</a:t>
            </a:r>
            <a:r>
              <a:rPr b="0" lang="es-ES" sz="2000" spc="-1" strike="noStrike">
                <a:solidFill>
                  <a:srgbClr val="000000"/>
                </a:solidFill>
                <a:latin typeface="Maiandra GD"/>
              </a:rPr>
              <a:t>, queremos ofrecerles nuevas maneras de crecer en libertad y responsabilidad, viviendo la verdad y asumiendo su vida como un don para Dios y los demás.</a:t>
            </a: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  <a:p>
            <a:pPr marL="477720" indent="-477720" algn="just">
              <a:spcBef>
                <a:spcPts val="125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aiandra GD"/>
              </a:rPr>
              <a:t>Ante la necesidad de reelaborar su </a:t>
            </a:r>
            <a:r>
              <a:rPr b="1" lang="es-ES" sz="2000" spc="-1" strike="noStrike">
                <a:solidFill>
                  <a:srgbClr val="000000"/>
                </a:solidFill>
                <a:latin typeface="Maiandra GD"/>
              </a:rPr>
              <a:t>fe</a:t>
            </a:r>
            <a:r>
              <a:rPr b="0" lang="es-ES" sz="2000" spc="-1" strike="noStrike">
                <a:solidFill>
                  <a:srgbClr val="000000"/>
                </a:solidFill>
                <a:latin typeface="Maiandra GD"/>
              </a:rPr>
              <a:t> y su </a:t>
            </a:r>
            <a:r>
              <a:rPr b="1" lang="es-ES" sz="2000" spc="-1" strike="noStrike">
                <a:solidFill>
                  <a:srgbClr val="000000"/>
                </a:solidFill>
                <a:latin typeface="Maiandra GD"/>
              </a:rPr>
              <a:t>religiosidad</a:t>
            </a:r>
            <a:r>
              <a:rPr b="0" lang="es-ES" sz="2000" spc="-1" strike="noStrike">
                <a:solidFill>
                  <a:srgbClr val="000000"/>
                </a:solidFill>
                <a:latin typeface="Maiandra GD"/>
              </a:rPr>
              <a:t>, queremos facilitarles las condiciones para encontrarse con el Dios Padre revelado en Jesucristo, el Dios que es Amor y que nos llama a vivir en comunión con Él.</a:t>
            </a: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0" y="485640"/>
            <a:ext cx="9144000" cy="505080"/>
          </a:xfrm>
          <a:prstGeom prst="rect">
            <a:avLst/>
          </a:prstGeom>
          <a:solidFill>
            <a:srgbClr val="582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63720" algn="ct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pperplate Gothic Light"/>
              </a:rPr>
              <a:t>Objetivos Específicos</a:t>
            </a:r>
            <a:endParaRPr b="0" lang="en-US" sz="2800" spc="-1" strike="noStrike">
              <a:solidFill>
                <a:srgbClr val="663300"/>
              </a:solidFill>
              <a:latin typeface="Maiandra GD"/>
            </a:endParaRPr>
          </a:p>
        </p:txBody>
      </p:sp>
      <p:pic>
        <p:nvPicPr>
          <p:cNvPr id="185" name="Picture 10" descr="LOGO CAMINANTES"/>
          <p:cNvPicPr/>
          <p:nvPr/>
        </p:nvPicPr>
        <p:blipFill>
          <a:blip r:embed="rId1"/>
          <a:stretch/>
        </p:blipFill>
        <p:spPr>
          <a:xfrm>
            <a:off x="250920" y="260280"/>
            <a:ext cx="122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6"/>
          <p:cNvSpPr/>
          <p:nvPr/>
        </p:nvSpPr>
        <p:spPr>
          <a:xfrm>
            <a:off x="457200" y="1260360"/>
            <a:ext cx="83059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Maiandra GD"/>
              </a:rPr>
              <a:t> </a:t>
            </a:r>
            <a:r>
              <a:rPr b="0" lang="es-ES_tradnl" sz="2200" spc="-1" strike="noStrike">
                <a:solidFill>
                  <a:srgbClr val="663300"/>
                </a:solidFill>
                <a:latin typeface="Maiandra GD"/>
              </a:rPr>
              <a:t>Utilizaremos la Pedagogía del viaje del Héroe como mediación fundamental para acompañar el proceso pedagógico que queremos propiciar en los prejuveniles, de modo que lleguen a vivirse como hijos de Dios Padre en el Hijo Jesucristo.</a:t>
            </a:r>
            <a:r>
              <a:rPr b="0" lang="es-ES_tradnl" sz="2400" spc="-1" strike="noStrike">
                <a:solidFill>
                  <a:srgbClr val="000000"/>
                </a:solidFill>
                <a:latin typeface="Maiandra GD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0" y="485640"/>
            <a:ext cx="9144000" cy="505080"/>
          </a:xfrm>
          <a:prstGeom prst="rect">
            <a:avLst/>
          </a:prstGeom>
          <a:solidFill>
            <a:srgbClr val="582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137040" algn="ct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pperplate Gothic Light"/>
              </a:rPr>
              <a:t>Marco Simbólico</a:t>
            </a:r>
            <a:endParaRPr b="0" lang="en-US" sz="28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4343400" y="2971800"/>
            <a:ext cx="4343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Maiandra G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remos invitarlos a vivir una gra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ventur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que escuchen el llamado de Dios a convertirse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héro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de su propia historia, dejando s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mundo ordinario» y aventurándose junto a otros en una gr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a de afrontar el proceso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guración de identid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están viviendo y, a imagen de Jesucristo, configurar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o hijos de Di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663300"/>
              </a:solidFill>
              <a:latin typeface="Maiandra GD"/>
            </a:endParaRPr>
          </a:p>
        </p:txBody>
      </p:sp>
      <p:pic>
        <p:nvPicPr>
          <p:cNvPr id="189" name="Picture 35" descr="LOGO CAMINANTES"/>
          <p:cNvPicPr/>
          <p:nvPr/>
        </p:nvPicPr>
        <p:blipFill>
          <a:blip r:embed="rId1"/>
          <a:stretch/>
        </p:blipFill>
        <p:spPr>
          <a:xfrm>
            <a:off x="250920" y="260280"/>
            <a:ext cx="1224000" cy="1067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6" descr="Sin título-1"/>
          <p:cNvPicPr/>
          <p:nvPr/>
        </p:nvPicPr>
        <p:blipFill>
          <a:blip r:embed="rId2"/>
          <a:stretch/>
        </p:blipFill>
        <p:spPr>
          <a:xfrm>
            <a:off x="422280" y="2997360"/>
            <a:ext cx="3429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0" descr="SIMBOLOS copia"/>
          <p:cNvPicPr/>
          <p:nvPr/>
        </p:nvPicPr>
        <p:blipFill>
          <a:blip r:embed="rId1"/>
          <a:stretch/>
        </p:blipFill>
        <p:spPr>
          <a:xfrm>
            <a:off x="34920" y="115920"/>
            <a:ext cx="8929800" cy="70358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"/>
          <p:cNvSpPr/>
          <p:nvPr/>
        </p:nvSpPr>
        <p:spPr>
          <a:xfrm>
            <a:off x="1879560" y="1274760"/>
            <a:ext cx="5068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63300"/>
                </a:solidFill>
                <a:latin typeface="Maiandra GD"/>
              </a:rPr>
              <a:t>La configuración del Pueblo de Israel será el telón de fondo de esta gran aventura: </a:t>
            </a:r>
            <a:r>
              <a:rPr b="0" lang="en-US" sz="2200" spc="-1" strike="noStrike">
                <a:solidFill>
                  <a:srgbClr val="663300"/>
                </a:solidFill>
                <a:latin typeface="Maiandra GD"/>
              </a:rPr>
              <a:t> su experiencia de configuración  como Pueblo de Dios y la de tantos héroes que marcaron esta Historia de Salvación, iluminará la aventura de los Caminantes. </a:t>
            </a:r>
            <a:endParaRPr b="0" lang="en-US" sz="2200" spc="-1" strike="noStrike">
              <a:solidFill>
                <a:srgbClr val="663300"/>
              </a:solidFill>
              <a:latin typeface="Maiandra GD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Maiandra GD"/>
              </a:rPr>
              <a:t>Por ello, no caminarán solos… sus tribus, verdaderos hermanos en esta aventura, los acompañarán en todo momento.</a:t>
            </a:r>
            <a:r>
              <a:rPr b="0" lang="en-US" sz="2200" spc="-1" strike="noStrike">
                <a:solidFill>
                  <a:srgbClr val="000000"/>
                </a:solidFill>
                <a:latin typeface="Maiandra GD"/>
              </a:rPr>
              <a:t> </a:t>
            </a:r>
            <a:endParaRPr b="0" lang="en-US" sz="2200" spc="-1" strike="noStrike">
              <a:solidFill>
                <a:srgbClr val="663300"/>
              </a:solidFill>
              <a:latin typeface="Maiandra GD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0" y="485640"/>
            <a:ext cx="9144000" cy="505080"/>
          </a:xfrm>
          <a:prstGeom prst="rect">
            <a:avLst/>
          </a:prstGeom>
          <a:solidFill>
            <a:srgbClr val="582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137040" algn="ct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pperplate Gothic Light"/>
              </a:rPr>
              <a:t>Marco Simbólico</a:t>
            </a:r>
            <a:endParaRPr b="0" lang="en-US" sz="2800" spc="-1" strike="noStrike">
              <a:solidFill>
                <a:srgbClr val="663300"/>
              </a:solidFill>
              <a:latin typeface="Maiandra GD"/>
            </a:endParaRPr>
          </a:p>
        </p:txBody>
      </p:sp>
      <p:pic>
        <p:nvPicPr>
          <p:cNvPr id="194" name="Picture 39" descr="LOGO CAMINANTES"/>
          <p:cNvPicPr/>
          <p:nvPr/>
        </p:nvPicPr>
        <p:blipFill>
          <a:blip r:embed="rId2"/>
          <a:stretch/>
        </p:blipFill>
        <p:spPr>
          <a:xfrm>
            <a:off x="250920" y="260280"/>
            <a:ext cx="122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20:22:18Z</dcterms:created>
  <dc:creator>vej</dc:creator>
  <dc:description/>
  <dc:language>en-US</dc:language>
  <cp:lastModifiedBy>Espiritiflautico</cp:lastModifiedBy>
  <cp:lastPrinted>2009-10-27T13:56:29Z</cp:lastPrinted>
  <dcterms:modified xsi:type="dcterms:W3CDTF">2014-01-08T10:49:22Z</dcterms:modified>
  <cp:revision>258</cp:revision>
  <dc:subject/>
  <dc:title>Caminantes La Aventura de ser Hijos de Dios</dc:title>
</cp:coreProperties>
</file>